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D43-B190-4BD4-8CE3-86C9E03A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B4FC-D7DE-4F92-BDBF-F8327D69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AC3-3C3E-46E9-B488-C9F3D48B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CF4A-A0A6-4C39-9F58-2C75D043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FEC3-0332-42DA-86E9-A09513B6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D3FC-464E-41CA-B012-8E1FCFD4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D4C-697B-486E-84D1-D0F15E56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825C-869E-4340-BB64-085E86BE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BE1-C6CE-4072-9ED1-ACBB1AD7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B738-E0B2-45AF-9BBD-9682C666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3D1C-6AE1-4440-AEBE-958D3790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FCE-96C7-4D34-8109-E4B66683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B452-C5AD-47A7-85D2-D3368A1CB01A}" type="slidenum"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BenQ Confidential Tuesday, February 07,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Jerry Mileston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8258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3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1/03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5/04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4/07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1/08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3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31/08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P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9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DS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8/09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3/S4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6/10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5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6:09:31Z</dcterms:created>
  <dc:creator>BMLaha</dc:creator>
  <dc:description/>
  <dc:language>en-US</dc:language>
  <cp:lastModifiedBy>Lars Bonde</cp:lastModifiedBy>
  <dcterms:modified xsi:type="dcterms:W3CDTF">2006-02-10T09:21:34Z</dcterms:modified>
  <cp:revision>60</cp:revision>
  <dc:subject/>
  <dc:title>Jerry - DL</dc:title>
</cp:coreProperties>
</file>